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EB1874-4365-499C-B5C5-5A28520514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2F953-46CF-433A-A0FF-C4BCAB166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27348E-01D0-4DF9-89CF-B809988FB3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F8503D-4B7B-44F8-9232-601B97BDA1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F13B2A-03E0-4BB7-A417-5BDB3BB985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2246DB-4043-4B47-BDB4-511E01C784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903A6D-8999-4B5C-8F3F-3CDF165368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732CF2-D4CD-414E-BCE5-F867841E61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715DD5-919A-4098-9360-74F49AE08F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043268-448A-4763-B603-FBE98277FC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C814FA-359D-4678-9974-30748F75D0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DEDAB-0C0C-45B6-AAA3-1D653AC77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10BFF8-8FC2-4E6F-9B4B-14C972A41C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26170A-FBBA-4ECE-8923-2328608462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A87B3A-A725-4817-833E-7C5B2D9238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9FB4CE-AE84-4CC1-BA19-3D993A0152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BE7991-B6A8-4205-AB35-7FF33469B5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0B004-C545-48D5-8F1A-105939DC3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F10DC-A615-4601-B1B3-5F3696E5E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7442E-7207-402D-AD24-7E44C89AA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E3F2D-6785-4BDD-94CD-65FCCE3CE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27339-C7CE-43C4-A873-D8001D7B5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984A2-14E5-4DEE-9A0B-6BA3EC28B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2CB5F-48DE-4D0C-80A4-51BDABC09B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86224-B47F-49F4-A670-8E23D78AD8EB}" type="slidenum">
              <a:rPr b="0" lang="sk-SK"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8AB6E-023E-4611-A210-2200139DD203}" type="slidenum">
              <a:rPr b="0" lang="sk-SK"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428720" y="4071960"/>
            <a:ext cx="4272120" cy="13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800" spc="-1" strike="noStrike">
                <a:solidFill>
                  <a:srgbClr val="000000"/>
                </a:solidFill>
                <a:latin typeface="Calibri"/>
              </a:rPr>
              <a:t>Výzva na predkladanie žiadostí o NFP „Skvalitnenie prípravy budúcich pedagogických a odborných zamestnancov“, kód OPLZ-PO1/2019/DOP/1.3.1-01</a:t>
            </a:r>
            <a:endParaRPr b="0" lang="en-US" sz="2800" spc="-1" strike="noStrike">
              <a:solidFill>
                <a:srgbClr val="000000"/>
              </a:solidFill>
              <a:latin typeface="Calibri"/>
            </a:endParaRPr>
          </a:p>
        </p:txBody>
      </p:sp>
      <p:sp>
        <p:nvSpPr>
          <p:cNvPr id="83" name="BlokTextu 5"/>
          <p:cNvSpPr/>
          <p:nvPr/>
        </p:nvSpPr>
        <p:spPr>
          <a:xfrm>
            <a:off x="0" y="5877000"/>
            <a:ext cx="324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7f7f7f"/>
                </a:solidFill>
                <a:latin typeface="Calibri"/>
              </a:rPr>
              <a:t>05.08.201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Oprávnené aktivity</a:t>
            </a:r>
            <a:endParaRPr b="0" lang="en-US" sz="3600" spc="-1" strike="noStrike">
              <a:solidFill>
                <a:srgbClr val="000000"/>
              </a:solidFill>
              <a:latin typeface="Calibri"/>
            </a:endParaRPr>
          </a:p>
        </p:txBody>
      </p:sp>
      <p:sp>
        <p:nvSpPr>
          <p:cNvPr id="102" name=""/>
          <p:cNvSpPr txBox="1"/>
          <p:nvPr/>
        </p:nvSpPr>
        <p:spPr>
          <a:xfrm>
            <a:off x="324000" y="980640"/>
            <a:ext cx="8331120" cy="55436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Realizáciou stáže študentov nesmie dochádzať k duplicitnému financovaniu činností/výdavkov pedagogického a/alebo odborného zamestnanca súvisiacich s riadnou pracovnou náplňou pedagogického zamestnanca a/alebo odborného zamestnanca cvičnej školy alebo cvičného školského zariadenia, (t. j. činnosti vykonávaných ako súčasť výchovno-vzdelávacieho procesu).</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Predmetom stáže nesmú byť činnosti realizované a financované výdavky súvisiace s činnosťou cvičného učiteľa, ktorý vykonáva rozbor/analýzu každej priamej vyučovacej alebo priamej výchovnej činnosti študenta, ktorú priamo odučí počas praxe.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Oprávnené aktivity</a:t>
            </a:r>
            <a:endParaRPr b="0" lang="en-US" sz="3600" spc="-1" strike="noStrike">
              <a:solidFill>
                <a:srgbClr val="000000"/>
              </a:solidFill>
              <a:latin typeface="Calibri"/>
            </a:endParaRPr>
          </a:p>
        </p:txBody>
      </p:sp>
      <p:sp>
        <p:nvSpPr>
          <p:cNvPr id="104" name=""/>
          <p:cNvSpPr txBox="1"/>
          <p:nvPr/>
        </p:nvSpPr>
        <p:spPr>
          <a:xfrm>
            <a:off x="468000" y="1483920"/>
            <a:ext cx="8186760" cy="504036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3) </a:t>
            </a:r>
            <a:r>
              <a:rPr b="1" lang="sk-SK" sz="2400" spc="-1" strike="noStrike">
                <a:solidFill>
                  <a:srgbClr val="000000"/>
                </a:solidFill>
                <a:latin typeface="Calibri"/>
              </a:rPr>
              <a:t>tvorba podporných vzdelávacích materiálov pre pedagogických zamestnancov cvičnej školy alebo cvičného školského zariadenia </a:t>
            </a:r>
            <a:r>
              <a:rPr b="0" lang="sk-SK" sz="2400" spc="-1" strike="noStrike">
                <a:solidFill>
                  <a:srgbClr val="000000"/>
                </a:solidFill>
                <a:latin typeface="Calibri"/>
              </a:rPr>
              <a:t>napr.: pracovné listy, pomôcky, hry, tvorivé materiály pre skupinovú prácu, a pod. a ich prezentácia a/alebo verejná oponentúra. </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Prijímateľ je povinný vytvorené podporné vzdelávacie materiály zverejniť na svojom webovom sídle s uvedením licencie CC BY (https://sk.creativecommons.org/?page_id=6 ) tak aby tieto vzdelávacie materiály boli dostupné pre kohokoľvek na ďalšie používani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Oprávnené aktivity</a:t>
            </a:r>
            <a:endParaRPr b="0" lang="en-US" sz="3600" spc="-1" strike="noStrike">
              <a:solidFill>
                <a:srgbClr val="000000"/>
              </a:solidFill>
              <a:latin typeface="Calibri"/>
            </a:endParaRPr>
          </a:p>
        </p:txBody>
      </p:sp>
      <p:sp>
        <p:nvSpPr>
          <p:cNvPr id="106" name=""/>
          <p:cNvSpPr txBox="1"/>
          <p:nvPr/>
        </p:nvSpPr>
        <p:spPr>
          <a:xfrm>
            <a:off x="468000" y="1483920"/>
            <a:ext cx="8186760" cy="504036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4) </a:t>
            </a:r>
            <a:r>
              <a:rPr b="1" lang="sk-SK" sz="2400" spc="-1" strike="noStrike">
                <a:solidFill>
                  <a:srgbClr val="000000"/>
                </a:solidFill>
                <a:latin typeface="Calibri"/>
              </a:rPr>
              <a:t>Riadenie/koordinácia projektu </a:t>
            </a:r>
            <a:r>
              <a:rPr b="0" lang="sk-SK" sz="2400" spc="-1" strike="noStrike">
                <a:solidFill>
                  <a:srgbClr val="000000"/>
                </a:solidFill>
                <a:latin typeface="Calibri"/>
              </a:rPr>
              <a:t>– </a:t>
            </a:r>
            <a:r>
              <a:rPr b="0" lang="sk-SK" sz="2400" spc="-1" strike="noStrike">
                <a:solidFill>
                  <a:srgbClr val="ff0000"/>
                </a:solidFill>
                <a:latin typeface="Calibri"/>
              </a:rPr>
              <a:t>povinná ako samostatná podaktivita bez ohľadu na to, ktoré činnosti/podaktivity 1-3 bude žiadateľ realizovať</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Oprávnené aktivity</a:t>
            </a:r>
            <a:endParaRPr b="0" lang="en-US" sz="3600" spc="-1" strike="noStrike">
              <a:solidFill>
                <a:srgbClr val="000000"/>
              </a:solidFill>
              <a:latin typeface="Calibri"/>
            </a:endParaRPr>
          </a:p>
        </p:txBody>
      </p:sp>
      <p:sp>
        <p:nvSpPr>
          <p:cNvPr id="108" name=""/>
          <p:cNvSpPr txBox="1"/>
          <p:nvPr/>
        </p:nvSpPr>
        <p:spPr>
          <a:xfrm>
            <a:off x="499680" y="1125360"/>
            <a:ext cx="8155080" cy="5399280"/>
          </a:xfrm>
          <a:prstGeom prst="rect">
            <a:avLst/>
          </a:prstGeom>
          <a:noFill/>
          <a:ln w="0">
            <a:noFill/>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u="sng">
                <a:solidFill>
                  <a:srgbClr val="000000"/>
                </a:solidFill>
                <a:uFillTx/>
                <a:latin typeface="Calibri"/>
              </a:rPr>
              <a:t>Všeobecne:</a:t>
            </a:r>
            <a:endParaRPr b="0" lang="en-US" sz="2200" spc="-1" strike="noStrike">
              <a:solidFill>
                <a:srgbClr val="000000"/>
              </a:solidFill>
              <a:latin typeface="Calibri"/>
            </a:endParaRPr>
          </a:p>
          <a:p>
            <a:pPr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000000"/>
                </a:solidFill>
                <a:latin typeface="Calibri"/>
              </a:rPr>
              <a:t>Forma preukázania: Formulár ŽoNFP (bod 7.2 a 9)</a:t>
            </a:r>
            <a:endParaRPr b="0" lang="en-US" sz="2200" spc="-1" strike="noStrike">
              <a:solidFill>
                <a:srgbClr val="000000"/>
              </a:solidFill>
              <a:latin typeface="Calibri"/>
            </a:endParaRPr>
          </a:p>
          <a:p>
            <a:pPr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000000"/>
                </a:solidFill>
                <a:latin typeface="Calibri"/>
              </a:rPr>
              <a:t>Výber škôl a školských zariadení musí byť transparentný</a:t>
            </a:r>
            <a:endParaRPr b="0" lang="en-US" sz="2200" spc="-1" strike="noStrike">
              <a:solidFill>
                <a:srgbClr val="000000"/>
              </a:solidFill>
              <a:latin typeface="Calibri"/>
            </a:endParaRPr>
          </a:p>
          <a:p>
            <a:pPr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000000"/>
                </a:solidFill>
                <a:latin typeface="Calibri"/>
              </a:rPr>
              <a:t>Školy a školské zariadenia nesmú byť financované prevažne zo súkromných zdrojov (súkromné zdroje nepredstavujú 50% a viac)</a:t>
            </a:r>
            <a:endParaRPr b="0" lang="en-US" sz="2200" spc="-1" strike="noStrike">
              <a:solidFill>
                <a:srgbClr val="000000"/>
              </a:solidFill>
              <a:latin typeface="Calibri"/>
            </a:endParaRPr>
          </a:p>
          <a:p>
            <a:pPr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000000"/>
                </a:solidFill>
                <a:latin typeface="Calibri"/>
              </a:rPr>
              <a:t>Žiadateľ nemôže predložiť viacero žiadostí o NFP s rovnakými oprávnenými aktivitami a súčasne rovnakou cieľovou skupinou. V prípade, ak žiadateľ predloží viacero žiadostí o NFP, ktoré porušia čo i len jednu z uvedených podmienok, budú tieto žiadosti o NFP vylúčené zo schvaľovacieho procesu. </a:t>
            </a:r>
            <a:endParaRPr b="0" lang="en-US" sz="2200" spc="-1" strike="noStrike">
              <a:solidFill>
                <a:srgbClr val="000000"/>
              </a:solidFill>
              <a:latin typeface="Calibri"/>
            </a:endParaRPr>
          </a:p>
          <a:p>
            <a:pPr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000000"/>
                </a:solidFill>
                <a:latin typeface="Calibri"/>
              </a:rPr>
              <a:t>Žiadateľ nesmie ukončiť fyzickú realizáciu hlavných aktivít projektu, t. j. plne zrealizovať všetky aktivity projektu, pred predložením ŽoNFP v rámci tejto výzvy. </a:t>
            </a:r>
            <a:endParaRPr b="0" lang="en-US" sz="2200" spc="-1" strike="noStrike">
              <a:solidFill>
                <a:srgbClr val="000000"/>
              </a:solidFill>
              <a:latin typeface="Calibri"/>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Podmienky poskytnutia príspevku</a:t>
            </a:r>
            <a:endParaRPr b="0" lang="en-US" sz="3600" spc="-1" strike="noStrike">
              <a:solidFill>
                <a:srgbClr val="000000"/>
              </a:solidFill>
              <a:latin typeface="Calibri"/>
            </a:endParaRPr>
          </a:p>
        </p:txBody>
      </p:sp>
      <p:sp>
        <p:nvSpPr>
          <p:cNvPr id="110" name=""/>
          <p:cNvSpPr txBox="1"/>
          <p:nvPr/>
        </p:nvSpPr>
        <p:spPr>
          <a:xfrm>
            <a:off x="499680" y="1196640"/>
            <a:ext cx="8155080" cy="5327640"/>
          </a:xfrm>
          <a:prstGeom prst="rect">
            <a:avLst/>
          </a:prstGeom>
          <a:noFill/>
          <a:ln w="0">
            <a:noFill/>
          </a:ln>
        </p:spPr>
        <p:txBody>
          <a:bodyPr anchor="t">
            <a:normAutofit fontScale="96000"/>
          </a:bodyPr>
          <a:p>
            <a:pPr marL="438840" indent="-438840" algn="just">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Podmienka oprávnenosti žiadateľa (právna forma)</a:t>
            </a:r>
            <a:endParaRPr b="0" lang="en-US" sz="2400" spc="-1" strike="noStrike">
              <a:solidFill>
                <a:srgbClr val="000000"/>
              </a:solidFill>
              <a:latin typeface="Calibri"/>
            </a:endParaRPr>
          </a:p>
          <a:p>
            <a:pPr marL="438840" indent="-43884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Viď slide č. 4</a:t>
            </a:r>
            <a:endParaRPr b="0" lang="en-US" sz="2400" spc="-1" strike="noStrike">
              <a:solidFill>
                <a:srgbClr val="000000"/>
              </a:solidFill>
              <a:latin typeface="Calibri"/>
            </a:endParaRPr>
          </a:p>
          <a:p>
            <a:pPr marL="438840" indent="-438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2. Podmienka nebyť dlžníkom na daniach</a:t>
            </a:r>
            <a:endParaRPr b="0" lang="en-US" sz="2400" spc="-1" strike="noStrike">
              <a:solidFill>
                <a:srgbClr val="000000"/>
              </a:solidFill>
              <a:latin typeface="Calibri"/>
            </a:endParaRPr>
          </a:p>
          <a:p>
            <a:pPr marL="438840" indent="-438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Žiadateľ nesmie byť dlžníkom na daniach u miestne príslušného správcu dane. </a:t>
            </a:r>
            <a:endParaRPr b="0" lang="en-US" sz="2400" spc="-1" strike="noStrike">
              <a:solidFill>
                <a:srgbClr val="000000"/>
              </a:solidFill>
              <a:latin typeface="Calibri"/>
            </a:endParaRPr>
          </a:p>
          <a:p>
            <a:pPr marL="438840" indent="-438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Čestné vyhlásenie žiadateľa v ŽoNFP (bod 15) </a:t>
            </a:r>
            <a:endParaRPr b="0" lang="en-US" sz="2400" spc="-1" strike="noStrike">
              <a:solidFill>
                <a:srgbClr val="000000"/>
              </a:solidFill>
              <a:latin typeface="Calibri"/>
            </a:endParaRPr>
          </a:p>
          <a:p>
            <a:pPr marL="438840" indent="-438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3. Podmienka nebyť dlžníkom poistného na zdravotnom poistení</a:t>
            </a:r>
            <a:endParaRPr b="0" lang="en-US" sz="2400" spc="-1" strike="noStrike">
              <a:solidFill>
                <a:srgbClr val="000000"/>
              </a:solidFill>
              <a:latin typeface="Calibri"/>
            </a:endParaRPr>
          </a:p>
          <a:p>
            <a:pPr marL="438840" indent="-438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Žiadateľ nesmie byť dlžníkom poistného na zdravotnom poistení v žiadnej zdravotnej poisťovni poskytujúcej verejné zdravotné poistenie v SR. </a:t>
            </a:r>
            <a:endParaRPr b="0" lang="en-US" sz="2400" spc="-1" strike="noStrike">
              <a:solidFill>
                <a:srgbClr val="000000"/>
              </a:solidFill>
              <a:latin typeface="Calibri"/>
            </a:endParaRPr>
          </a:p>
          <a:p>
            <a:pPr marL="438840" indent="-438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Čestné vyhlásenie žiadateľa v ŽoNFP (bod 15) </a:t>
            </a:r>
            <a:endParaRPr b="0" lang="en-US" sz="2400" spc="-1" strike="noStrike">
              <a:solidFill>
                <a:srgbClr val="000000"/>
              </a:solidFill>
              <a:latin typeface="Calibri"/>
            </a:endParaRPr>
          </a:p>
          <a:p>
            <a:pPr marL="438840" indent="-43884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txBox="1"/>
          <p:nvPr/>
        </p:nvSpPr>
        <p:spPr>
          <a:xfrm>
            <a:off x="250560" y="260280"/>
            <a:ext cx="8186760" cy="58327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4. Podmienka nebyť dlžníkom na sociálnom poistení</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Žiadateľ nesmie byť dlžníkom na sociálnom poistení.</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Čestné vyhlásenie žiadateľa v ŽoNFP (bod 15) </a:t>
            </a:r>
            <a:endParaRPr b="0" lang="en-US" sz="24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5. Podmienka zákazu vedenia výkonu rozhodnutia voči žiadateľovi</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Voči žiadateľovi nesmie byť vedený výkon rozhodnutia ani vymáhacie konanie v súlade s článkom 71 všeobecného nariadenia.</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Čestné vyhlásenie žiadateľa v ŽoNFP (bod 15)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txBox="1"/>
          <p:nvPr/>
        </p:nvSpPr>
        <p:spPr>
          <a:xfrm>
            <a:off x="250560" y="260280"/>
            <a:ext cx="8186760" cy="58327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6. Podmienka, že voči žiadateľovi sa nenárokuje vrátenie pomoci na základe rozhodnutia EK, ktorým bola pomoc označená za neoprávnenú a nezlučiteľnú s vnútorným trhom</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Voči žiadateľovi sa nesmie nárokovať vrátenie pomoci na základe rozhodnutia Európskej komisie, ktorým bola pomoc označená za neoprávnenú a nezlučiteľnú so spoločným trhom.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Spôsob overenia: Čestné vyhlásenie žiadateľa v ŽoNFP (bod 15)</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txBox="1"/>
          <p:nvPr/>
        </p:nvSpPr>
        <p:spPr>
          <a:xfrm>
            <a:off x="250560" y="260280"/>
            <a:ext cx="8186760" cy="58327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7. Podmienka finančnej spôsobilosti spolufinancovania projektu</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Žiadateľ musí byť finančne spôsobilý na spolufinancovanie projektu. Finančná spôsobilosť na spolufinancovanie projektu znamená, že žiadateľ má zabezpečené finančné prostriedky na spolufinancovanie oprávnených výdavkov projektu. Výška spolufinancovania projektu zo strany žiadateľa sa stanovuje ako rozdiel medzi celkovými oprávnenými výdavkami projektu a žiadaným NFP.</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Sken dokumentu: napr. výpis z bankového účtu, resp. potvrdenie komerčnej banky, že žiadateľ disponuje požadovanou výškou finančných prostriedkov; úverová zmluva; Čestné vyhlásenie žiadateľa v ŽoNFP (bod 15)</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txBox="1"/>
          <p:nvPr/>
        </p:nvSpPr>
        <p:spPr>
          <a:xfrm>
            <a:off x="250560" y="260280"/>
            <a:ext cx="8186760" cy="5832720"/>
          </a:xfrm>
          <a:prstGeom prst="rect">
            <a:avLst/>
          </a:prstGeom>
          <a:noFill/>
          <a:ln w="0">
            <a:noFill/>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200" spc="-1" strike="noStrike">
                <a:solidFill>
                  <a:srgbClr val="000000"/>
                </a:solidFill>
                <a:latin typeface="Calibri"/>
              </a:rPr>
              <a:t>8. Podmienka, že žiadateľ ani jeho štatutárny orgán, ani žiadny člen štatutárneho orgánu, ani prokurista/i, ani osoba splnomocnená zastupovať žiadateľa v konaní o ŽoNFP neboli právoplatne odsúdení za trestný čin korupcie, za trestný čin poškodzovania finančných záujmov Európskej únie, za trestný čin legalizácie príjmu z trestnej činnosti, za trestný čin založenia, zosnovania a podporovania zločineckej skupiny, alebo za trestný čin machinácie pri verejnom obstarávaní a verejnej dražbe</a:t>
            </a:r>
            <a:endParaRPr b="0" lang="en-US" sz="2200" spc="-1" strike="noStrike">
              <a:solidFill>
                <a:srgbClr val="000000"/>
              </a:solidFill>
              <a:latin typeface="Calibri"/>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000000"/>
                </a:solidFill>
                <a:latin typeface="Calibri"/>
              </a:rPr>
              <a:t>Žiadateľ, jeho štatutárny orgán, žiadny člen štatutárneho orgánu, prokurista/i ani osoba splnomocnená zastupovať žiadateľa v konaní o ŽoNFP neboli právoplatne odsúdení podľa Trestného zákona za trestný čin (ďalej len „TČ“) korupcie, TČ poškodzovania finančných záujmov Európskej únie, TČ legalizácie príjmu z trestnej činnosti, TČ založenia, zosnovania a podporovania zločineckej skupiny alebo TČ machinácie pri verejnom obstarávaní a verejnej dražbe. </a:t>
            </a:r>
            <a:endParaRPr b="0" lang="en-US" sz="2200" spc="-1" strike="noStrike">
              <a:solidFill>
                <a:srgbClr val="000000"/>
              </a:solidFill>
              <a:latin typeface="Calibri"/>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000000"/>
                </a:solidFill>
                <a:latin typeface="Calibri"/>
              </a:rPr>
              <a:t>Forma preukázania: Čestné vyhlásenie žiadateľa v ŽoNFP (bod 15)</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txBox="1"/>
          <p:nvPr/>
        </p:nvSpPr>
        <p:spPr>
          <a:xfrm>
            <a:off x="250560" y="260280"/>
            <a:ext cx="8186760" cy="58327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9. Podmienka, že voči žiadateľovi nie je vedené konkurzné konanie, reštrukturalizačné konanie, nie je v konkurze ani v reštrukturalizácii</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Voči žiadateľovi sa nesmie viesť konkurzné konanie, reštrukturalizačné konanie, nesmie byť v konkurze ani v reštrukturalizácii. Podmienka sa vzťahuje aj na konania začaté a neukončené podľa zákona č. 328/1991 Zb. o konkurze a vyrovnaní v znení neskorších predpisov. Podmienka zahŕňa aj prípady zastavenia konkurzného konania z dôvodu nedostatku majetku alebo zrušenia konkurzu z dôvodu nedostatku majetku.</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Čestné vyhlásenie žiadateľa v ŽoNFP (bod 15)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Všeobecné informácie</a:t>
            </a:r>
            <a:endParaRPr b="0" lang="en-US" sz="3600" spc="-1" strike="noStrike">
              <a:solidFill>
                <a:srgbClr val="000000"/>
              </a:solidFill>
              <a:latin typeface="Calibri"/>
            </a:endParaRPr>
          </a:p>
        </p:txBody>
      </p:sp>
      <p:sp>
        <p:nvSpPr>
          <p:cNvPr id="85" name=""/>
          <p:cNvSpPr txBox="1"/>
          <p:nvPr/>
        </p:nvSpPr>
        <p:spPr>
          <a:xfrm>
            <a:off x="352440" y="1458720"/>
            <a:ext cx="8331120" cy="5398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Výzva v rámci prioritnej osi č. 1 Vzdelávanie OP Ľudské zdroje, špecifický cieľ 1.3.1 </a:t>
            </a:r>
            <a:r>
              <a:rPr b="0" i="1" lang="sk-SK" sz="2400" spc="-1" strike="noStrike">
                <a:solidFill>
                  <a:srgbClr val="000000"/>
                </a:solidFill>
                <a:latin typeface="Calibri"/>
              </a:rPr>
              <a:t>Zvýšiť kvalitu VŠ vzdelávania a rozvoj ľudských zdrojov v oblasti výskumu a vývoja s cieľom dosiahnuť prepojenie VŠ vzdelávania s potrebami trhu práce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Vyhlásenie výzvy dňa 26.07.2019</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Otvorená výzva (systém hodnotiacich kô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Uzávierka 1. hodnotiaceho kola </a:t>
            </a:r>
            <a:r>
              <a:rPr b="1" lang="sk-SK" sz="2400" spc="-1" strike="noStrike">
                <a:solidFill>
                  <a:srgbClr val="000000"/>
                </a:solidFill>
                <a:latin typeface="Calibri"/>
              </a:rPr>
              <a:t>30.09.2019</a:t>
            </a:r>
            <a:r>
              <a:rPr b="0" lang="sk-SK" sz="2400" spc="-1" strike="noStrike">
                <a:solidFill>
                  <a:srgbClr val="000000"/>
                </a:solidFill>
                <a:latin typeface="Calibri"/>
              </a:rPr>
              <a:t>, 2. kolo </a:t>
            </a:r>
            <a:r>
              <a:rPr b="1" lang="sk-SK" sz="2400" spc="-1" strike="noStrike">
                <a:solidFill>
                  <a:srgbClr val="000000"/>
                </a:solidFill>
                <a:latin typeface="Calibri"/>
              </a:rPr>
              <a:t>15.11.2019</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Celé územie Slovensk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Alokácia 15 mil. EUR (z toho pre BSK 1,5 mil. EU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Alokácia na projekt 100 001 EUR- 500 000 EU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Dĺžka trvania realizácie aktivít od 18 do 36 mesiacov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txBox="1"/>
          <p:nvPr/>
        </p:nvSpPr>
        <p:spPr>
          <a:xfrm>
            <a:off x="250560" y="260280"/>
            <a:ext cx="8186760" cy="58327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10. Podmienka, že voči žiadateľovi ktorým je právnická osoba, nemá právoplatným rozsudkom uložený trest zákazu prijímať dotácie alebo subvencie, trest zákazu prijímať pomoc a podporu poskytovanú z fondov EÚ alebo trest zákazu činnosti vo verejnom obstarávaní podľa osobitného predpisu</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Voči žiadateľovi sa nesmie viesť konkurzné konanie, reštrukturalizačné konanie, nesmie byť v konkurze ani v reštrukturalizácii. Podmienka sa vzťahuje aj na konania začaté a neukončené podľa zákona č. 328/1991 Zb. o konkurze a vyrovnaní v znení neskorších predpisov. Podmienka zahŕňa aj prípady zastavenia konkurzného konania z dôvodu nedostatku majetku alebo zrušenia konkurzu z dôvodu nedostatku majetku.</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Čestné vyhlásenie žiadateľa v ŽoNFP (bod 15)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txBox="1"/>
          <p:nvPr/>
        </p:nvSpPr>
        <p:spPr>
          <a:xfrm>
            <a:off x="250560" y="260280"/>
            <a:ext cx="8186760" cy="5832720"/>
          </a:xfrm>
          <a:prstGeom prst="rect">
            <a:avLst/>
          </a:prstGeom>
          <a:noFill/>
          <a:ln w="0">
            <a:noFill/>
          </a:ln>
        </p:spPr>
        <p:txBody>
          <a:bodyPr anchor="t">
            <a:normAutofit fontScale="98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11. </a:t>
            </a:r>
            <a:r>
              <a:rPr b="1" lang="pl-PL" sz="2400" spc="-1" strike="noStrike">
                <a:solidFill>
                  <a:srgbClr val="000000"/>
                </a:solidFill>
                <a:latin typeface="Calibri"/>
              </a:rPr>
              <a:t>Podmienka oprávnenosti cieľovej skupiny projektu</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Viď slide č. 5</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Formulár ŽoNFP (bod 7.2 a 8)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Pozn.: Podmienka nie je preukazovaná zo strany žiadateľa samostatnou prílohou.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12. Podmienka, že hlavné aktivity projektu sú vo vecnom súlade s oprávnenými aktivitami OP ĽZ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Viď slidy 6-12 ppt</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13. Podmienka, že výdavky projektu sú oprávnené a nárokovaná výška výdavkov je oprávnená na financovanie z OP ĽZ</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 samostatná ppt k podmienke (výdavkom)</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txBox="1"/>
          <p:nvPr/>
        </p:nvSpPr>
        <p:spPr>
          <a:xfrm>
            <a:off x="250560" y="260280"/>
            <a:ext cx="8186760" cy="58327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14. Podmienka, že projekt je realizovaný na oprávnenom území</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Oprávneným miestom realizácie aktivít projektu sú všetky kraje menej rozvinutého regiónu a viac rozvinutý región.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Geografická oprávnenosť žiadateľa (oprávnené miesto realizácie projektu) sa určuje prostredníctvom toho, z ktorého regiónu Slovenskej republiky pochádza cieľová skupina v projekte, pričom pri študentoch vysokej školy sa za rozhodujúce považuje sídlo vysokej školy/fakulty, ktorej sú študentami.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Formulár ŽoNFP (bod 5 a 6)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Pozn.: Podmienka nie je preukazovaná zo strany žiadateľa samostatnou prílohou.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txBox="1"/>
          <p:nvPr/>
        </p:nvSpPr>
        <p:spPr>
          <a:xfrm>
            <a:off x="250560" y="260280"/>
            <a:ext cx="8186760" cy="5832720"/>
          </a:xfrm>
          <a:prstGeom prst="rect">
            <a:avLst/>
          </a:prstGeom>
          <a:noFill/>
          <a:ln w="0">
            <a:noFill/>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200" spc="-1" strike="noStrike">
                <a:solidFill>
                  <a:srgbClr val="000000"/>
                </a:solidFill>
                <a:latin typeface="Calibri"/>
              </a:rPr>
              <a:t>15. Podmienka splnenia kritérií pre výber projektov</a:t>
            </a:r>
            <a:endParaRPr b="0" lang="en-US" sz="2200" spc="-1" strike="noStrike">
              <a:solidFill>
                <a:srgbClr val="000000"/>
              </a:solidFill>
              <a:latin typeface="Calibri"/>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000000"/>
                </a:solidFill>
                <a:latin typeface="Calibri"/>
              </a:rPr>
              <a:t>ŽoNFP musí splniť kritériá pre výber projektov, ktoré boli schválené prostredníctvom monitorovacieho výboru pre OP ĽZ a sú prílohou č. 7 výzvy. </a:t>
            </a:r>
            <a:endParaRPr b="0" lang="en-US" sz="2200" spc="-1" strike="noStrike">
              <a:solidFill>
                <a:srgbClr val="000000"/>
              </a:solidFill>
              <a:latin typeface="Calibri"/>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000000"/>
                </a:solidFill>
                <a:latin typeface="Calibri"/>
              </a:rPr>
              <a:t>Pozn.: Podmienka nie je preukazovaná zo strany žiadateľa samostatnou prílohou. Informácie potrebné k vyhodnoteniu doplňujúceho kritéria uvedie žiadateľ vo formulári ŽoNFP (bod 7.2).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txBox="1"/>
          <p:nvPr/>
        </p:nvSpPr>
        <p:spPr>
          <a:xfrm>
            <a:off x="250560" y="259920"/>
            <a:ext cx="8186760" cy="597708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16. Podmienka relevantného spôsobu financovania</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V rámci tejto výzvy sa uplatňuje spôsob financovania prostredníctvom: refundácie, formou zálohových platieb, a/alebo formou kombinácie zálohových platieb a refundácie v súlade s platným Systémom finančného riadenia EŠIF.</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Forma poskytovaného príspevku: nenávratný finančný príspevok.</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Táto podmienka nie je predmetom preukázania splnenia zo strany žiadateľa pri predložení žiadosti o NFP.</a:t>
            </a:r>
            <a:endParaRPr b="0" lang="en-US" sz="20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17. Podmienka neporušenia zákazu nelegálneho zamestnávania štátneho príslušníka tretej krajiny žiadateľom za obdobie 5 rokov predchádzajúcich podaniu ŽoNFP</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Žiadateľ nesmie porušiť zákaz nelegálnej práce a nelegálneho zamestnávania podľa osobitného predpisu za obdobie 5 rokov predchádzajúcich predloženiu žiadosti o NFP.</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Forma preukázania: Čestné vyhlásenie Formulár ŽoNFP časť 15</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txBox="1"/>
          <p:nvPr/>
        </p:nvSpPr>
        <p:spPr>
          <a:xfrm>
            <a:off x="250560" y="260280"/>
            <a:ext cx="8186760" cy="58327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18. Podmienky týkajúce sa štátnej pomoci a vyplývajúce zo schém štátnej pomoci/pomoci de minimis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Oprávnené aktivity tak, ako sú stanovené touto výzvou nie sú poskytovaním štátnej pomoci a teda vo vzťahu k oprávneným aktivitám sa neuplatňujú pravidlá štátnej pomoci. Žiadateľ/prijímateľ si je vedomý, že štátnou pomocou sa v tejto súvislosti rozumie každá pomoc v akejkoľvek forme, ktorú poskytuje na podnikanie alebo v súvislosti s ním poskytovateľ priamo alebo nepriamo z prostriedkov štátneho rozpočtu, zo svojho rozpočtu alebo z vlastných zdrojov podniku, pričom však nezáleží na právnej forme žiadateľa/prijímateľa a spôsobe jeho financovania.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Forma preukázania: Nie je predmetom preukazovania zo strany žiadateľa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txBox="1"/>
          <p:nvPr/>
        </p:nvSpPr>
        <p:spPr>
          <a:xfrm>
            <a:off x="250560" y="259920"/>
            <a:ext cx="8186760" cy="597708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19. Oprávnenosť z hľadiska súladu s HP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Predložená ŽoNFP, musí byť v súlade s horizontálnymi princípmi rovnosť mužov a žien a nediskriminácia a udržateľný rozvoj na roky 2014 – 2020 a v čl. 7 a 8 všeobecného nariadenia.</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Forma preukázania: </a:t>
            </a:r>
            <a:r>
              <a:rPr b="0" lang="sk-SK" sz="2000" spc="-1" strike="noStrike">
                <a:solidFill>
                  <a:srgbClr val="000000"/>
                </a:solidFill>
                <a:latin typeface="Calibri"/>
              </a:rPr>
              <a:t>Formulár ŽoNFP (bod 5 a časť 7.2) a Čestné vyhlásenie žiadateľa v ŽoNFP (bod 15)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Pozn.: Podmienka súladu s HP nie je preukazovaná zo strany žiadateľa samostatnou prílohou.</a:t>
            </a:r>
            <a:endParaRPr b="0" lang="en-US" sz="20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20. Minimálna a maximálna výška príspevku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Minimálna výška príspevku na projekt je 100 001 €.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Maximálna výška príspevku na projekt je 500 000 €.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Pozn.: Žiadateľ je povinný plniť podmienku minimálnej výšky príspevku do momentu poskytnutia súčinnosti podľa § 25 ods. 4 zákona o príspevku z EŠIF v prípade vydania rozhodnutia o schválení ŽoNFP.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Forma preukázania: </a:t>
            </a:r>
            <a:r>
              <a:rPr b="0" lang="sk-SK" sz="2000" spc="-1" strike="noStrike">
                <a:solidFill>
                  <a:srgbClr val="000000"/>
                </a:solidFill>
                <a:latin typeface="Calibri"/>
              </a:rPr>
              <a:t>Formulár ŽoNFP (bod 11) a Rozpočet projektu s podrobným komentárom (Príloha č. 1a ŽoNFP)</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txBox="1"/>
          <p:nvPr/>
        </p:nvSpPr>
        <p:spPr>
          <a:xfrm>
            <a:off x="250560" y="260280"/>
            <a:ext cx="8186760" cy="5832720"/>
          </a:xfrm>
          <a:prstGeom prst="rect">
            <a:avLst/>
          </a:prstGeom>
          <a:noFill/>
          <a:ln w="0">
            <a:noFill/>
          </a:ln>
        </p:spPr>
        <p:txBody>
          <a:bodyPr anchor="t">
            <a:normAutofit fontScale="99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21. Časová oprávnenosť realizácie projektu</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Minimálna dĺžka na realizáciu aktivít projektu – 18 mesiacov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Maximálna dĺžka na realizáciu aktivít projektu je 36 mesiacov</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Forma preukázania: </a:t>
            </a:r>
            <a:r>
              <a:rPr b="0" lang="sk-SK" sz="2000" spc="-1" strike="noStrike">
                <a:solidFill>
                  <a:srgbClr val="000000"/>
                </a:solidFill>
                <a:latin typeface="Calibri"/>
              </a:rPr>
              <a:t>Formulár ŽoNFP (bod 9)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Pozn.: Podmienka nie je preukazovaná zo strany žiadateľa samostatnou prílohou.</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22. Podmienky poskytnutia príspevku z hľadiska definovania merateľných ukazovateľov projektu</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Merateľné ukazovatele projektu pre túto výzvu sú definované v prílohe č. 3 Zoznam povinných merateľných ukazovateľov projektu merateľných ukazovateľov (ďalej „MU“), vrátane ukazovateľov relevantných k HP a iných údajov tejto výzvy. Všetky MU vo výzve v prílohe č. 3 sú definované ako povinné.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Forma preukázania: Formulár ŽoNFP (body 9, 10.1 a 10.2)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Pozn.: Podmienka nie je preukazovaná zo strany žiadateľa samostatnou prílohou.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txBox="1"/>
          <p:nvPr/>
        </p:nvSpPr>
        <p:spPr>
          <a:xfrm>
            <a:off x="250560" y="260280"/>
            <a:ext cx="8186760" cy="58327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23. Podmienka zákazu predloženia viacero ŽoNFP vo vzťahu k prebiehajúcemu alebo ukončenému schvaľovaciemu procesu ŽoNFP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Žiadateľ nie je oprávnený predložiť viacero ŽoNFP v rámci tejto výzvy resp. hodnotiaceho kola tejto výzvy pre rovnaké aktivity a zároveň rovnakú cieľovú skupinu ak konanie o predmetnej ŽoNFP stále trvá resp. bolo vydané Rozhodnutie o schválení ŽoNFP.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Čestné vyhlásenie žiadateľa o NFP v časti 15 žiadosti o NFP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Pozn.: Podmienka nie je preukazovaná zo strany žiadateľa samostatnou prílohou.</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9280" y="259920"/>
            <a:ext cx="818676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Prílohy výzvy</a:t>
            </a:r>
            <a:endParaRPr b="0" lang="en-US" sz="3600" spc="-1" strike="noStrike">
              <a:solidFill>
                <a:srgbClr val="000000"/>
              </a:solidFill>
              <a:latin typeface="Calibri"/>
            </a:endParaRPr>
          </a:p>
        </p:txBody>
      </p:sp>
      <p:sp>
        <p:nvSpPr>
          <p:cNvPr id="126" name=""/>
          <p:cNvSpPr txBox="1"/>
          <p:nvPr/>
        </p:nvSpPr>
        <p:spPr>
          <a:xfrm>
            <a:off x="395280" y="1052640"/>
            <a:ext cx="8331120" cy="5256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ulár ŽoNFP s prílohami (ŽoNFP, rozpočet, doplňujúce informácie k administratívnej a prevádzkovej kapacite, prieskum trhu, plnomocenstvo, životopis, čestné vyhlásenie, formulár žiadosti o výpis z registra trestov)</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Príručka pre žiadateľa pre prioritnú os 1 Vzdelávanie OP ĽZ, verzia 6.0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Zoznam povinných merateľných ukazovateľov, vrátane ukazovateľov relevantných k HP a iných údajov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Zoznam oprávnených a neoprávnených výdavkov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Riadenie projektu – vytypované pozície – náplň činnosti a kvalifikačné predpoklady</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99680" y="274320"/>
            <a:ext cx="81867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Predkladanie projektov</a:t>
            </a:r>
            <a:endParaRPr b="0" lang="en-US" sz="3600" spc="-1" strike="noStrike">
              <a:solidFill>
                <a:srgbClr val="000000"/>
              </a:solidFill>
              <a:latin typeface="Calibri"/>
            </a:endParaRPr>
          </a:p>
        </p:txBody>
      </p:sp>
      <p:sp>
        <p:nvSpPr>
          <p:cNvPr id="87" name=""/>
          <p:cNvSpPr txBox="1"/>
          <p:nvPr/>
        </p:nvSpPr>
        <p:spPr>
          <a:xfrm>
            <a:off x="355680" y="1052640"/>
            <a:ext cx="8331120" cy="4897440"/>
          </a:xfrm>
          <a:prstGeom prst="rect">
            <a:avLst/>
          </a:prstGeom>
          <a:noFill/>
          <a:ln w="0">
            <a:noFill/>
          </a:ln>
        </p:spPr>
        <p:txBody>
          <a:bodyPr anchor="t">
            <a:normAutofit fontScale="97000"/>
          </a:bodyPr>
          <a:p>
            <a:pPr marL="332640" indent="-3326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Calibri"/>
              </a:rPr>
              <a:t>Predkladanie projektov – MŠVVaŠ SR (nie Výskumná agentúra/ASFEU)</a:t>
            </a:r>
            <a:endParaRPr b="0" lang="en-US" sz="2300" spc="-1" strike="noStrike">
              <a:solidFill>
                <a:srgbClr val="000000"/>
              </a:solidFill>
              <a:latin typeface="Calibri"/>
            </a:endParaRPr>
          </a:p>
          <a:p>
            <a:pPr marL="332640" indent="-3326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Calibri"/>
              </a:rPr>
              <a:t>Projekty sa predkladajú cez ITMS2014+ (neplatia prístupy z minulosti)</a:t>
            </a:r>
            <a:endParaRPr b="0" lang="en-US" sz="2300" spc="-1" strike="noStrike">
              <a:solidFill>
                <a:srgbClr val="000000"/>
              </a:solidFill>
              <a:latin typeface="Calibri"/>
            </a:endParaRPr>
          </a:p>
          <a:p>
            <a:pPr marL="332640" indent="-332640" algn="just">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Calibri"/>
              </a:rPr>
              <a:t>písomná verzia osobne/poštou/kuriérom</a:t>
            </a:r>
            <a:endParaRPr b="0" lang="en-US" sz="2300" spc="-1" strike="noStrike">
              <a:solidFill>
                <a:srgbClr val="000000"/>
              </a:solidFill>
              <a:latin typeface="Calibri"/>
            </a:endParaRPr>
          </a:p>
          <a:p>
            <a:pPr marL="332640" indent="-332640" algn="just">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Calibri"/>
              </a:rPr>
              <a:t>elektronická verzia – možnosť využiť elektronickú schránku</a:t>
            </a:r>
            <a:endParaRPr b="0" lang="en-US" sz="2300" spc="-1" strike="noStrike">
              <a:solidFill>
                <a:srgbClr val="000000"/>
              </a:solidFill>
              <a:latin typeface="Calibri"/>
            </a:endParaRPr>
          </a:p>
          <a:p>
            <a:pPr marL="332640" indent="-3326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Calibri"/>
              </a:rPr>
              <a:t>Minimalizovanie počtu predkladaných dokumentov zo strany žiadateľov (potvrdenia)</a:t>
            </a:r>
            <a:endParaRPr b="0" lang="en-US" sz="2300" spc="-1" strike="noStrike">
              <a:solidFill>
                <a:srgbClr val="000000"/>
              </a:solidFill>
              <a:latin typeface="Calibri"/>
            </a:endParaRPr>
          </a:p>
          <a:p>
            <a:pPr marL="332640" indent="-3326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Calibri"/>
              </a:rPr>
              <a:t>Po predložení projektu administratívna kontrola (možnosť zaslať výzvu na doplnenie chýbajúcich náležitostí/klarifikáciu), odborné hodnotenie, vydanie Rozhodnutí o schválení/neschválení ŽoNFP, v Rozhodnutí môžu byť podmienky, uzavretie Zmluvy o poskytnutí NFP</a:t>
            </a:r>
            <a:endParaRPr b="0" lang="en-US" sz="23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Prílohy výzvy</a:t>
            </a:r>
            <a:endParaRPr b="0" lang="en-US" sz="3600" spc="-1" strike="noStrike">
              <a:solidFill>
                <a:srgbClr val="000000"/>
              </a:solidFill>
              <a:latin typeface="Calibri"/>
            </a:endParaRPr>
          </a:p>
        </p:txBody>
      </p:sp>
      <p:sp>
        <p:nvSpPr>
          <p:cNvPr id="128" name=""/>
          <p:cNvSpPr txBox="1"/>
          <p:nvPr/>
        </p:nvSpPr>
        <p:spPr>
          <a:xfrm>
            <a:off x="324000" y="1267920"/>
            <a:ext cx="8331120" cy="525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Štandardná stupnica jednotkových nákladov-prax študentov učiteľských fakúlt-prax budúcich učiteľov-hodina priameho rozboru jednotky vyučovacej činnosti (vyučovacia hodina v škole) alebo priamej výchovnej činnosti (školské zariadenie) študenta cvičným učiteľom)</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Kritériá pre výber projektov OP ĽZ a metodika ich uplatňovani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Informácia pre žiadateľov o nenávratný finančný príspevok, resp. o príspevok, ktorá je zverejnená na webovom sídle http://www.olaf.vlada.gov.sk/system-vcasneho-odhalovania-rizika-a-vylucenia-ed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Ďalšie podporné dokumenty a informácie (zoznam odkazov)</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9680" y="242064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400" spc="-1" strike="noStrike">
                <a:solidFill>
                  <a:srgbClr val="e46c0a"/>
                </a:solidFill>
                <a:latin typeface="Calibri"/>
              </a:rPr>
              <a:t>Ďakujem za pozornosť.</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52320" y="177480"/>
            <a:ext cx="80028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Oprávnení žiadatelia</a:t>
            </a:r>
            <a:endParaRPr b="0" lang="en-US" sz="3600" spc="-1" strike="noStrike">
              <a:solidFill>
                <a:srgbClr val="000000"/>
              </a:solidFill>
              <a:latin typeface="Calibri"/>
            </a:endParaRPr>
          </a:p>
        </p:txBody>
      </p:sp>
      <p:sp>
        <p:nvSpPr>
          <p:cNvPr id="89" name=""/>
          <p:cNvSpPr txBox="1"/>
          <p:nvPr/>
        </p:nvSpPr>
        <p:spPr>
          <a:xfrm>
            <a:off x="250560" y="836640"/>
            <a:ext cx="8404200" cy="1224000"/>
          </a:xfrm>
          <a:prstGeom prst="rect">
            <a:avLst/>
          </a:prstGeom>
          <a:noFill/>
          <a:ln w="0">
            <a:noFill/>
          </a:ln>
        </p:spPr>
        <p:txBody>
          <a:bodyPr anchor="t">
            <a:normAutofit fontScale="46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Verejné vysoké školy </a:t>
            </a:r>
            <a:r>
              <a:rPr b="0" lang="sk-SK" sz="2400" spc="-1" strike="noStrike">
                <a:solidFill>
                  <a:srgbClr val="000000"/>
                </a:solidFill>
                <a:latin typeface="Calibri"/>
              </a:rPr>
              <a:t>v zmysle § 2 ods. 2 písm. a) zákona č. 131/2002 Z. z. o vysokých školách a o zmene a doplnení niektorých zákonov v znení neskorších predpisov</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Žiadosť o NFP nemôže predložiť fakulta</a:t>
            </a:r>
            <a:r>
              <a:rPr b="0" lang="sk-SK" sz="2400" spc="-1" strike="noStrike">
                <a:solidFill>
                  <a:srgbClr val="000000"/>
                </a:solidFill>
                <a:latin typeface="Calibri"/>
              </a:rPr>
              <a:t>, predkladá výhradne vysoká škola (možnosť predložiť jednu alebo viac žiadostí o NFP)</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Identifikácia žiadateľa vo formulári žiadosti o NFP, podmienka nie je preukazovaná zo strany žiadateľa samostatnou prílohou</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0" name="Nadpis 1"/>
          <p:cNvSpPr/>
          <p:nvPr/>
        </p:nvSpPr>
        <p:spPr>
          <a:xfrm>
            <a:off x="1042920" y="2421000"/>
            <a:ext cx="7859880" cy="515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52320" y="177480"/>
            <a:ext cx="80028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Oprávnené cieľové skupiny</a:t>
            </a:r>
            <a:endParaRPr b="0" lang="en-US" sz="3600" spc="-1" strike="noStrike">
              <a:solidFill>
                <a:srgbClr val="000000"/>
              </a:solidFill>
              <a:latin typeface="Calibri"/>
            </a:endParaRPr>
          </a:p>
        </p:txBody>
      </p:sp>
      <p:sp>
        <p:nvSpPr>
          <p:cNvPr id="92" name=""/>
          <p:cNvSpPr txBox="1"/>
          <p:nvPr/>
        </p:nvSpPr>
        <p:spPr>
          <a:xfrm>
            <a:off x="250560" y="764640"/>
            <a:ext cx="8404200" cy="1295640"/>
          </a:xfrm>
          <a:prstGeom prst="rect">
            <a:avLst/>
          </a:prstGeom>
          <a:noFill/>
          <a:ln w="0">
            <a:noFill/>
          </a:ln>
        </p:spPr>
        <p:txBody>
          <a:bodyPr anchor="t">
            <a:normAutofit fontScale="60000"/>
          </a:bodyPr>
          <a:p>
            <a:pPr marL="205560" indent="-2055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05560" indent="-2055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študenti dennej formy štúdia prvého a/alebo druhého stupňa VŠ v odboroch pripravujúcich budúcich pedagogických a/alebo odborných zamestnancov</a:t>
            </a:r>
            <a:endParaRPr b="0" lang="en-US" sz="2400" spc="-1" strike="noStrike">
              <a:solidFill>
                <a:srgbClr val="000000"/>
              </a:solidFill>
              <a:latin typeface="Calibri"/>
            </a:endParaRPr>
          </a:p>
          <a:p>
            <a:pPr marL="205560" indent="-2055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Formulár ŽoNFP (bod 7.2 a 8), podmienka nie je preukazovaná zo strany žiadateľa samostatnou prílohou</a:t>
            </a:r>
            <a:endParaRPr b="0" lang="en-US" sz="2400" spc="-1" strike="noStrike">
              <a:solidFill>
                <a:srgbClr val="000000"/>
              </a:solidFill>
              <a:latin typeface="Calibri"/>
            </a:endParaRPr>
          </a:p>
          <a:p>
            <a:pPr marL="205560" indent="-2055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05560" indent="-2055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05560" indent="-2055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Oprávnené aktivity</a:t>
            </a:r>
            <a:endParaRPr b="0" lang="en-US" sz="3600" spc="-1" strike="noStrike">
              <a:solidFill>
                <a:srgbClr val="000000"/>
              </a:solidFill>
              <a:latin typeface="Calibri"/>
            </a:endParaRPr>
          </a:p>
        </p:txBody>
      </p:sp>
      <p:sp>
        <p:nvSpPr>
          <p:cNvPr id="94" name=""/>
          <p:cNvSpPr txBox="1"/>
          <p:nvPr/>
        </p:nvSpPr>
        <p:spPr>
          <a:xfrm>
            <a:off x="499680" y="1052640"/>
            <a:ext cx="8155080" cy="54720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u="sng">
                <a:solidFill>
                  <a:srgbClr val="000000"/>
                </a:solidFill>
                <a:uFillTx/>
                <a:latin typeface="Calibri"/>
              </a:rPr>
              <a:t>Znenie aktivity v ITMS2014+ (názov typu aktivity z textu OPĽZ): </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400" spc="-1" strike="noStrike">
                <a:solidFill>
                  <a:srgbClr val="000000"/>
                </a:solidFill>
                <a:latin typeface="Calibri"/>
              </a:rPr>
              <a:t>podpora vytvárania cvičných škôl v rámci prípravy na povolanie učiteľa, prepojenie teoretického a praktického vzdelávania s dôrazom na prax študentov vrátane mentoringu a sieťovania informácií</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u="sng">
                <a:solidFill>
                  <a:srgbClr val="000000"/>
                </a:solidFill>
                <a:uFillTx/>
                <a:latin typeface="Calibri"/>
              </a:rPr>
              <a:t>V žiadosti o NFP:</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Žiadateľ zadefinuje v časti 9 jednu hlavnú aktivitu priradenú k typu aktivity </a:t>
            </a:r>
            <a:r>
              <a:rPr b="0" i="1" lang="sk-SK" sz="2400" spc="-1" strike="noStrike">
                <a:solidFill>
                  <a:srgbClr val="000000"/>
                </a:solidFill>
                <a:latin typeface="Calibri"/>
              </a:rPr>
              <a:t>„podpora vytvárania cvičných škôl v rámci prípravy na povolanie učiteľa, prepojenie teoretického a praktického vzdelávania s dôrazom na prax študentov vrátane mentoringu a sieťovania informácií“ </a:t>
            </a:r>
            <a:r>
              <a:rPr b="0" lang="sk-SK" sz="2400" spc="-1" strike="noStrike">
                <a:solidFill>
                  <a:srgbClr val="000000"/>
                </a:solidFill>
                <a:latin typeface="Calibri"/>
              </a:rPr>
              <a:t>a v časti 7.2 popíše činnosti/podaktivity v rámci hlavnej aktivity</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Oprávnené aktivity</a:t>
            </a:r>
            <a:endParaRPr b="0" lang="en-US" sz="3600" spc="-1" strike="noStrike">
              <a:solidFill>
                <a:srgbClr val="000000"/>
              </a:solidFill>
              <a:latin typeface="Calibri"/>
            </a:endParaRPr>
          </a:p>
        </p:txBody>
      </p:sp>
      <p:sp>
        <p:nvSpPr>
          <p:cNvPr id="96" name=""/>
          <p:cNvSpPr txBox="1"/>
          <p:nvPr/>
        </p:nvSpPr>
        <p:spPr>
          <a:xfrm>
            <a:off x="499680" y="1125360"/>
            <a:ext cx="8155080" cy="53992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u="sng">
                <a:solidFill>
                  <a:srgbClr val="000000"/>
                </a:solidFill>
                <a:uFillTx/>
                <a:latin typeface="Calibri"/>
              </a:rPr>
              <a:t>Oprávnené činnosti/podaktivity hlavnej aktivity v rámci výzvy – časť 7.2:</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1) prax študentov učiteľských fakúlt –prax budúcich učiteľov - štandardná stupnica jednotkových nákladov </a:t>
            </a:r>
            <a:r>
              <a:rPr b="1" lang="sk-SK" sz="2400" spc="-1" strike="noStrike">
                <a:solidFill>
                  <a:srgbClr val="000000"/>
                </a:solidFill>
                <a:latin typeface="Calibri"/>
              </a:rPr>
              <a:t>hodina priameho rozboru jednotky priamej vyučovacej činnosti </a:t>
            </a:r>
            <a:r>
              <a:rPr b="0" lang="sk-SK" sz="2400" spc="-1" strike="noStrike">
                <a:solidFill>
                  <a:srgbClr val="000000"/>
                </a:solidFill>
                <a:latin typeface="Calibri"/>
              </a:rPr>
              <a:t>(vyučovacia hodina v škole) </a:t>
            </a:r>
            <a:r>
              <a:rPr b="1" lang="sk-SK" sz="2400" spc="-1" strike="noStrike">
                <a:solidFill>
                  <a:srgbClr val="000000"/>
                </a:solidFill>
                <a:latin typeface="Calibri"/>
              </a:rPr>
              <a:t>alebo priamej výchovnej činnosti </a:t>
            </a:r>
            <a:r>
              <a:rPr b="0" lang="sk-SK" sz="2400" spc="-1" strike="noStrike">
                <a:solidFill>
                  <a:srgbClr val="000000"/>
                </a:solidFill>
                <a:latin typeface="Calibri"/>
              </a:rPr>
              <a:t>(školské zariadenie) </a:t>
            </a:r>
            <a:r>
              <a:rPr b="1" lang="sk-SK" sz="2400" spc="-1" strike="noStrike">
                <a:solidFill>
                  <a:srgbClr val="000000"/>
                </a:solidFill>
                <a:latin typeface="Calibri"/>
              </a:rPr>
              <a:t>študenta cvičným učiteľom </a:t>
            </a:r>
            <a:r>
              <a:rPr b="0" lang="sk-SK" sz="2400" spc="-1" strike="noStrike">
                <a:solidFill>
                  <a:srgbClr val="000000"/>
                </a:solidFill>
                <a:latin typeface="Calibri"/>
              </a:rPr>
              <a:t>v súlade </a:t>
            </a:r>
            <a:r>
              <a:rPr b="0" lang="sk-SK" sz="2400" spc="-1" strike="noStrike" u="sng">
                <a:solidFill>
                  <a:srgbClr val="000000"/>
                </a:solidFill>
                <a:uFillTx/>
                <a:latin typeface="Calibri"/>
              </a:rPr>
              <a:t>s prílohou č. 6 tejto výzvy</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400" spc="-1" strike="noStrike" u="sng">
                <a:solidFill>
                  <a:srgbClr val="000000"/>
                </a:solidFill>
                <a:uFillTx/>
                <a:latin typeface="Calibri"/>
              </a:rPr>
              <a:t>Týka sa výhradne študijných odborov: </a:t>
            </a:r>
            <a:r>
              <a:rPr b="0" lang="sk-SK" sz="2400" spc="-1" strike="noStrike">
                <a:solidFill>
                  <a:srgbClr val="000000"/>
                </a:solidFill>
                <a:latin typeface="Calibri"/>
              </a:rPr>
              <a:t>učiteľstvo akademických predmetov, učiteľstvo profesijných predmetov a praktickej prípravy, učiteľstvo umelecko-výchovných a výchovných predmetov, pedagogika, predškolská a elementárna pedagogika, špeciálna pedagogika, liečebná pedagogika nad rámec ich financovania zo štátneho rozpočtu:</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Oprávnené aktivity</a:t>
            </a:r>
            <a:endParaRPr b="0" lang="en-US" sz="3600" spc="-1" strike="noStrike">
              <a:solidFill>
                <a:srgbClr val="000000"/>
              </a:solidFill>
              <a:latin typeface="Calibri"/>
            </a:endParaRPr>
          </a:p>
        </p:txBody>
      </p:sp>
      <p:sp>
        <p:nvSpPr>
          <p:cNvPr id="98" name=""/>
          <p:cNvSpPr txBox="1"/>
          <p:nvPr/>
        </p:nvSpPr>
        <p:spPr>
          <a:xfrm>
            <a:off x="395280" y="1052640"/>
            <a:ext cx="8259840" cy="5472000"/>
          </a:xfrm>
          <a:prstGeom prst="rect">
            <a:avLst/>
          </a:prstGeom>
          <a:noFill/>
          <a:ln w="0">
            <a:noFill/>
          </a:ln>
        </p:spPr>
        <p:txBody>
          <a:bodyPr anchor="t">
            <a:normAutofit fontScale="99000"/>
          </a:bodyPr>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inovované pedagogické praxe - inovácia a overenie existujúcich druhov pedagogických praxí v rámci študijných programov VŠ</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nový model/typ pedagogických praxí - vytvorenie a overenie nového modelu pedagogických praxí,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zvýšený počet praxí nad rámec praxí definovaných v študijných programoch vysokých škôl- pedagogické praxe nad rámec súčasného rozsahu praxí realizovaných v študijných programoch VŠ </a:t>
            </a: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Žiadateľ v časti 7.2 ŽoNFP popíše, ktorú/ktoré z vyššie uvedených troch možností plánuje realizovať (môže aj všetky tri)</a:t>
            </a: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Rozsah resp. strop pedagogických praxí financovaných v rámci štandardnej stupnice jednotkových nákladov je pre túto výzvu stanovený nasledovne – max. 140 043 rozborov/projek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Oprávnené aktivity</a:t>
            </a:r>
            <a:endParaRPr b="0" lang="en-US" sz="3600" spc="-1" strike="noStrike">
              <a:solidFill>
                <a:srgbClr val="000000"/>
              </a:solidFill>
              <a:latin typeface="Calibri"/>
            </a:endParaRPr>
          </a:p>
        </p:txBody>
      </p:sp>
      <p:sp>
        <p:nvSpPr>
          <p:cNvPr id="100" name=""/>
          <p:cNvSpPr txBox="1"/>
          <p:nvPr/>
        </p:nvSpPr>
        <p:spPr>
          <a:xfrm>
            <a:off x="324000" y="980640"/>
            <a:ext cx="8331120" cy="55436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2) </a:t>
            </a:r>
            <a:r>
              <a:rPr b="1" lang="sk-SK" sz="2400" spc="-1" strike="noStrike">
                <a:solidFill>
                  <a:srgbClr val="000000"/>
                </a:solidFill>
                <a:latin typeface="Calibri"/>
              </a:rPr>
              <a:t>stáž študentov študijných programov vysokých škôl pripravujúcich budúcich pedagogických a/alebo odborných zamestnancov</a:t>
            </a:r>
            <a:r>
              <a:rPr b="0" lang="sk-SK" sz="2400" spc="-1" strike="noStrike">
                <a:solidFill>
                  <a:srgbClr val="000000"/>
                </a:solidFill>
                <a:latin typeface="Calibri"/>
              </a:rPr>
              <a:t>: </a:t>
            </a:r>
            <a:r>
              <a:rPr b="0" i="1" lang="sk-SK" sz="2400" spc="-1" strike="noStrike">
                <a:solidFill>
                  <a:srgbClr val="000000"/>
                </a:solidFill>
                <a:latin typeface="Calibri"/>
              </a:rPr>
              <a:t>Stáž študentov je forma praktickej skúsenosti realizovaná v škole a/alebo školskom zariadení zaradenom do Siete škôl a školských zariadení</a:t>
            </a:r>
            <a:r>
              <a:rPr b="0" lang="sk-SK" sz="2400" spc="-1" strike="noStrike">
                <a:solidFill>
                  <a:srgbClr val="000000"/>
                </a:solidFill>
                <a:latin typeface="Calibri"/>
              </a:rPr>
              <a:t>. </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Žiadateľ je povinný v časti 7.2 popísať spôsob realizácie stáže a jej výstupy. </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Počas implementácie projektu je prijímateľ povinný pred spustením tejto činnosti predložiť poskytovateľovi plán stáže.</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3T20:40:01Z</dcterms:created>
  <dc:creator>paul sly</dc:creator>
  <dc:description/>
  <dc:language>en-US</dc:language>
  <cp:lastModifiedBy>Paľková Veronika</cp:lastModifiedBy>
  <dcterms:modified xsi:type="dcterms:W3CDTF">2019-08-05T07:28:31Z</dcterms:modified>
  <cp:revision>175</cp:revision>
  <dc:subject/>
  <dc:title>Snímka 1</dc:title>
</cp:coreProperties>
</file>